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2ED-0482-42D0-8EF8-826F5859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8FE-D36B-4120-85CB-68A2EC98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4FD-0075-4830-975A-2A26504F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D86-BF6B-496E-8041-365CC548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3E77-6061-459D-860D-EA7A3B99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1FCC-D85D-4CBE-9C1C-4F276AB5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3585-79B4-4EDE-AB13-98F7EA85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DF89-F090-4BAE-B18D-E5196340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2204-8613-4768-B55E-71D8525D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62D1-0150-4014-AFAA-1438D919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4F67-15AE-499C-9D01-6094ED1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56C-A02F-4A4B-BB86-E6777BCC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8C8A-2E09-4F59-9BD4-BBD1386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3D7A-CFFA-43B1-9D35-405BF74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7D68-C291-4443-A232-A9D9AD76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4A81-30E7-4ABB-BC7B-842206FD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AE42-278C-4356-AAF3-9CF94E06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74C4A-43FC-4A99-ABC7-EC8B7852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C111-AEF0-45C8-86E2-8803C6DB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1492-FBB9-40AE-836E-9D101F2A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32AF-4574-4232-9588-334224BA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55E3-CD51-4B01-80C9-D1FBB62F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751-F89D-4BC0-A955-5D0F4947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D392A-932D-4969-96FB-C671C9D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4B58-5F03-4FFE-820A-94D00F9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6EC8-4551-4984-8DF9-1552AED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7A7A-5F8B-4DF3-85AB-5E8330DD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2B1C-F449-4EC7-9CB8-D5F60334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C8A4-21FD-47E7-9C78-8A5FDB53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379F-CA78-46FC-9F3D-C59A58F8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23F6-45FC-49B3-B7E3-C7589810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029CF-213E-4C85-A339-CEDFF6FB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C0094-C73E-4B5F-9D7D-42498122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D2D-1E8E-4AE5-BCD1-4D582F54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0E03-DC3D-4DAE-9C43-75F0A3CC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6FC29-CE44-426B-8AD1-56F27C49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7986-6FD4-4BF8-AEA7-B78AA3A3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1F10-D95D-450A-BAEF-24814C9D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F2F4F-8CCD-40D0-BD03-88AC91AF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B08DD-8E13-4100-BBDE-0BE4D12F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6CFA-C536-46B6-982A-D5494163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DCFE-EFEE-4CDD-985B-E649A88E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1EB9E-317E-44C4-8769-51213902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8988E-6D3F-44B6-8527-13D6980F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845-9D46-4FBD-897A-E0E8C755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A249-68DE-4723-9D54-7A872426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5D06-5B9E-4F26-BFB2-0E651549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8644C-B478-44FD-965A-1E997099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3005-2015-464C-AABC-0C44C1B2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5F786-FC47-4C08-97B3-5F7A9F12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C4A8-4874-48FE-8088-60F6FE68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863C-FDDC-4DEC-BD82-3FF2B5A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CE6F6-DA64-43CB-866B-6C4D927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0DD6B-B0D4-4C3B-BC4A-969D044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664C-8408-4903-999B-68C0DCC8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21A-D45D-4EC7-89FB-6174B1C3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EA73D-D598-4016-BCD6-B74219BC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8354-9B1A-4CF6-8F51-3D3F9464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1A981-470D-419C-A608-6AF428B3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26A08-CCBB-4249-B3CA-EE5BA840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5611-552B-47E2-9D03-22048113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0B1AE-C614-40A1-8BB8-3863842D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2A7D8-5311-4754-9D9F-D35395D7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2A3DC-77F3-4B26-AD81-730DD06F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0EA9A-C12B-4E01-979C-B1D06B5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232B-2CDA-4970-AEB0-0307F9FF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881-4124-47C1-A624-A87DCDE8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46DC0-5F3B-45D0-BE24-238DF1C2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C32D8-F89B-4565-BCB6-6E3AC4EF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0AF9-BE4B-47CF-9C22-81788E52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DC3F2-5B40-485D-9720-A778C2CF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9C857-2DB2-4E5A-8408-C2765251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57A1C-5D1D-4866-BAA8-CE5B144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F8A36-0CD1-4224-928C-78BC5355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74959-4E82-48CB-A9E9-9B94F39B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89CB0-C755-436B-9C82-17EF6453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1793-65C0-4519-A89B-AC4C69A4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6DE-A20E-4195-8A88-09B5BA4F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281FE-9F1C-41E3-9426-666A968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3FFF5-D04E-43AF-8453-05CE0D8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8702E-61F8-4729-81EB-0E805789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E72D6-4C6F-4677-92B9-EE1863F2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B00A2-492D-4C17-B641-E0412F88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C4848-C314-4A71-BE9E-329D341A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EBA20-4A5D-4B3B-A6F5-2F473253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E9012-0667-4732-AF84-FC60F9CB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B4505-3862-43B1-AD58-FE93C7DF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1DCB3-B658-4A50-B91B-E2717031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BA6-E356-4E6C-8CFA-AAC1976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53A0-6A74-47DB-9956-7C849588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B3EF2-49C0-43DE-B4E9-94875769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E92DD-9A22-4643-98C0-E0863684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50D0F-56BC-47EE-8C5C-58596AFD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1B28D-5A7D-48B0-A39D-EAD4034B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38DD8-A61E-490B-B466-B956FBDA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704C8-E107-4571-B4A3-ADD040D7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3384-7FDD-498F-97A7-EDACE5E795F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Přímá spojnice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Přímá spojnice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7DD2-81EF-4311-90ED-DDC393CEE7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Přímá spojnice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F269-548D-41F8-B102-E71CDC0733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nice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5" name="Přímá spojnice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1AFA-6764-4EDE-A664-B32B9977CF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DDCD-98E7-477B-A84B-E79EFB6FE64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Přímá spojnice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30" name="Přímá spojnice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0CD4-BBCB-44A5-851D-0CD61572A5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9A86-CB11-4A9A-B361-352E8A5D567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9431-3268-482B-B347-E27CEFB38FA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jp.rvp.cz/" TargetMode="External"/><Relationship Id="rId4" Type="http://schemas.openxmlformats.org/officeDocument/2006/relationships/hyperlink" Target="http://www.ejp.rvp.cz/" TargetMode="External"/><Relationship Id="rId5" Type="http://schemas.openxmlformats.org/officeDocument/2006/relationships/hyperlink" Target="http://www.ejp.rvp.cz/" TargetMode="External"/><Relationship Id="rId6" Type="http://schemas.openxmlformats.org/officeDocument/2006/relationships/hyperlink" Target="http://www.ejp.rvp.cz/" TargetMode="External"/><Relationship Id="rId7" Type="http://schemas.openxmlformats.org/officeDocument/2006/relationships/hyperlink" Target="http://www.ejp.rvp.cz/" TargetMode="External"/><Relationship Id="rId8" Type="http://schemas.openxmlformats.org/officeDocument/2006/relationships/hyperlink" Target="http://www.ejp.rvp.cz/" TargetMode="External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cml.at/" TargetMode="External"/><Relationship Id="rId4" Type="http://schemas.openxmlformats.org/officeDocument/2006/relationships/hyperlink" Target="http://www.ecml.at/" TargetMode="External"/><Relationship Id="rId5" Type="http://schemas.openxmlformats.org/officeDocument/2006/relationships/hyperlink" Target="http://www.ecml.at/" TargetMode="External"/><Relationship Id="rId6" Type="http://schemas.openxmlformats.org/officeDocument/2006/relationships/hyperlink" Target="http://www.ecml.at/" TargetMode="External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2"/>
          <a:stretch/>
        </p:blipFill>
        <p:spPr>
          <a:xfrm>
            <a:off x="298440" y="-42840"/>
            <a:ext cx="8699400" cy="1511280"/>
          </a:xfrm>
          <a:prstGeom prst="rect">
            <a:avLst/>
          </a:prstGeom>
          <a:ln w="0">
            <a:noFill/>
          </a:ln>
        </p:spPr>
      </p:pic>
      <p:pic>
        <p:nvPicPr>
          <p:cNvPr id="356" name="Zástupný symbol pro obsah 2" descr=""/>
          <p:cNvPicPr/>
          <p:nvPr/>
        </p:nvPicPr>
        <p:blipFill>
          <a:blip r:embed="rId3"/>
          <a:stretch/>
        </p:blipFill>
        <p:spPr>
          <a:xfrm>
            <a:off x="298440" y="1547640"/>
            <a:ext cx="86994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91581f"/>
                </a:solidFill>
                <a:latin typeface="Franklin Gothic Book"/>
              </a:rPr>
              <a:t>Terminologi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cs-CZ" sz="2400" spc="-1" strike="noStrike">
                <a:solidFill>
                  <a:srgbClr val="c17529"/>
                </a:solidFill>
                <a:latin typeface="Franklin Gothic Book"/>
              </a:rPr>
              <a:t>interkulturní 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kompetence, výchova a vzdělávání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plurilingvní vzdělávání,vícejazyčný kontex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multikulturní třída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v souvislosti </a:t>
            </a:r>
            <a:r>
              <a:rPr b="1" lang="cs-CZ" sz="2400" spc="-1" strike="noStrike">
                <a:solidFill>
                  <a:srgbClr val="c17529"/>
                </a:solidFill>
                <a:latin typeface="Franklin Gothic Book"/>
              </a:rPr>
              <a:t>s úrovní ovládání jazyka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jazyk periferní, jazyk odborný a jazyk akademick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označení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L1 </a:t>
            </a: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pro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mateřský jazyk cizinců </a:t>
            </a: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a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L2 </a:t>
            </a: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pro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první cizí jazyk cizinců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užívat název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„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Languages of schooling“/“Langue(s) Scholarisation“ - „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jazyky užívané ve škole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“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nahradit  termíny „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cizí jazyk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“ a „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další cizí jazyk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“ z RVP podle koncepce „Languages of schooling“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vývoj deskriptorů A1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1 podle SERR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 žáky-cizince v konkrétním národním kontextu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cs-CZ" sz="1600" spc="-1" strike="noStrike">
                <a:solidFill>
                  <a:srgbClr val="4e3b30"/>
                </a:solidFill>
                <a:latin typeface="Franklin Gothic Book"/>
              </a:rPr>
              <a:t>RE se nebude podílet na „jednotném Rámci“ a jednotných deskriptorech pro žáky-cizince)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užívat 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Evropské jazykové portfolio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ww.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ejp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rvp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.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cz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(jaromira.sindelarova@gmail.com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mezivládní seminář Rady Evropy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«Relever le défi des classes multilingues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tirer partie des répertoires plurilingues, gérer les moments de transitions et développer les compétences en langue(s) de scolarisation»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1581f"/>
                </a:solidFill>
                <a:latin typeface="Franklin Gothic Book"/>
              </a:rPr>
              <a:t>Štrasburk – 7. a 8. března 201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c17529"/>
                </a:solidFill>
                <a:latin typeface="Franklin Gothic Book"/>
              </a:rPr>
              <a:t>Cíl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nové vzdělávací koncepty</a:t>
            </a:r>
            <a:r>
              <a:rPr b="0" lang="cs-CZ" sz="22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0" lang="cs-CZ" sz="2200" spc="-1" strike="noStrike">
                <a:solidFill>
                  <a:srgbClr val="4e3b30"/>
                </a:solidFill>
                <a:latin typeface="Franklin Gothic Book"/>
              </a:rPr>
              <a:t>při hledání společného interkulturního dialogu ve vzdělávání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profesionalita pedagogů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výklad a obsah některých pojmů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činnost Evropského centra pro moderní jazyky </a:t>
            </a:r>
            <a:r>
              <a:rPr b="0" lang="cs-CZ" sz="2200" spc="-1" strike="noStrike">
                <a:solidFill>
                  <a:srgbClr val="4e3b30"/>
                </a:solidFill>
                <a:latin typeface="Franklin Gothic Book"/>
              </a:rPr>
              <a:t>(ECML) v </a:t>
            </a:r>
            <a:r>
              <a:rPr b="1" lang="cs-CZ" sz="2200" spc="-1" strike="noStrike">
                <a:solidFill>
                  <a:srgbClr val="4e3b30"/>
                </a:solidFill>
                <a:latin typeface="Franklin Gothic Book"/>
              </a:rPr>
              <a:t>Grazu</a:t>
            </a:r>
            <a:r>
              <a:rPr b="0" lang="cs-CZ" sz="2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tvorba příruček na podporu moderních jazyků pro multikulturní třídy (dostupné na 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ww.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ecml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.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at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důraz na </a:t>
            </a:r>
            <a:r>
              <a:rPr b="1" lang="cs-CZ" sz="1900" spc="-1" strike="noStrike">
                <a:solidFill>
                  <a:srgbClr val="4e3b30"/>
                </a:solidFill>
                <a:latin typeface="Franklin Gothic Book"/>
              </a:rPr>
              <a:t>sociokulturní aspekt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 při začleňování žáků-cizinců do školního prostředí, na dovednosti a </a:t>
            </a:r>
            <a:r>
              <a:rPr b="0" i="1" lang="cs-CZ" sz="1900" spc="-1" strike="noStrike">
                <a:solidFill>
                  <a:srgbClr val="4e3b30"/>
                </a:solidFill>
                <a:latin typeface="Franklin Gothic Book"/>
              </a:rPr>
              <a:t>postoje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 pramenící z rozdílných kultur a jazykových odlišností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4e3b30"/>
                </a:solidFill>
                <a:latin typeface="Franklin Gothic Book"/>
              </a:rPr>
              <a:t>klasifikace jazyků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, jimiž jsou žáci ovlivňováni ve škole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(např. „</a:t>
            </a:r>
            <a:r>
              <a:rPr b="0" i="1" lang="cs-CZ" sz="1900" spc="-1" strike="noStrike">
                <a:solidFill>
                  <a:srgbClr val="4e3b30"/>
                </a:solidFill>
                <a:latin typeface="Franklin Gothic Book"/>
              </a:rPr>
              <a:t>Languages of schooling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“ je pojem zahrnující: </a:t>
            </a:r>
            <a:r>
              <a:rPr b="0" i="1" lang="cs-CZ" sz="1900" spc="-1" strike="noStrike">
                <a:solidFill>
                  <a:srgbClr val="4e3b30"/>
                </a:solidFill>
                <a:latin typeface="Franklin Gothic Book"/>
              </a:rPr>
              <a:t>vyučovací jazyk, jazyk regionální, nářeční, jazyk minorit a migrantů, jazyk mateřský a ostatní moderní a klasické jazyky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7529"/>
                </a:solidFill>
                <a:latin typeface="Franklin Gothic Book"/>
              </a:rPr>
              <a:t>2 tendence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, a to ve vztahu k roli pedagoga v multikulturní třídě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1. zevrubná </a:t>
            </a:r>
            <a:r>
              <a:rPr b="1" lang="cs-CZ" sz="2800" spc="-1" strike="noStrike">
                <a:solidFill>
                  <a:srgbClr val="c17529"/>
                </a:solidFill>
                <a:latin typeface="Franklin Gothic Book"/>
              </a:rPr>
              <a:t>znalost všech mateřských jazyků 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žáků-cizinců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1" lang="cs-CZ" sz="2800" spc="-1" strike="noStrike">
                <a:solidFill>
                  <a:srgbClr val="c17529"/>
                </a:solidFill>
                <a:latin typeface="Franklin Gothic Book"/>
              </a:rPr>
              <a:t>znalost sociokulturního prostředí </a:t>
            </a:r>
            <a:r>
              <a:rPr b="0" lang="cs-CZ" sz="2800" spc="-1" strike="noStrike">
                <a:solidFill>
                  <a:srgbClr val="c17529"/>
                </a:solidFill>
                <a:latin typeface="Franklin Gothic Book"/>
              </a:rPr>
              <a:t>žáka-cizince</a:t>
            </a:r>
            <a:r>
              <a:rPr b="1" lang="cs-CZ" sz="2800" spc="-1" strike="noStrike">
                <a:solidFill>
                  <a:srgbClr val="c17529"/>
                </a:solidFill>
                <a:latin typeface="Franklin Gothic Book"/>
              </a:rPr>
              <a:t> a základů jeho mateřského jazyk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4e3b30"/>
                </a:solidFill>
                <a:latin typeface="Franklin Gothic Book"/>
              </a:rPr>
              <a:t>Úloha pedagoga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: prostřednictvím základních znalostí typologie jazyků a kulturních odlišností </a:t>
            </a:r>
            <a:r>
              <a:rPr b="0" i="1" lang="cs-CZ" sz="2800" spc="-1" strike="noStrike">
                <a:solidFill>
                  <a:srgbClr val="4e3b30"/>
                </a:solidFill>
                <a:latin typeface="Franklin Gothic Book"/>
              </a:rPr>
              <a:t>budovat pozitivní postoje 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u svých žák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tegrační program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apř. ve Finsku, Irsku, Norsku a Belgii v rámci krátkodobých a střednědobých program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7529"/>
                </a:solidFill>
                <a:latin typeface="Franklin Gothic Book"/>
              </a:rPr>
              <a:t>Finsko -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program rozvoje multikulturních dovedností ve všeobecném vzdělávání (2007–2011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příliv národností z Ruska, Somálska, Albánie, Estonska a příslušníků kurdské národnosti (povinná školní docházka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7529"/>
                </a:solidFill>
                <a:latin typeface="Franklin Gothic Book"/>
              </a:rPr>
              <a:t>Finský program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je zaměřen na žáky-migranty 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a) v předškolním věku (6 let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b) na ZŠ (7–16 let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škola získává dvojitý grant na žáka-cizince v jeho prvním roce studia, individuální vzdělávací plán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možnost studovat švédštinu, finštinu a svůj rodný jazyk ve skupinové výuce vedené učitelem a jeho asistentem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povinností zřizovatele je nabídnout žáku-cizinci výuku v jeho rodném jazyce, přičemž finský školský zákon garantuje výuku náboženství v rodném jazyce žáka-cizince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Finsko vypracovalo kurikulum pro žáky/studenty – finština (švédština) jako cizí jazyk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17529"/>
                </a:solidFill>
                <a:latin typeface="Franklin Gothic Book"/>
              </a:rPr>
              <a:t>Pedagogové</a:t>
            </a: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 žáků-cizinců jsou doškolováni pro výuku finštiny jako cizího jazyka; finančně hodnoceni už i za výuku minimálně dvou žáků-cizinců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jednotlivé obce pak mají vypracovány multikulturní integrační programy pro efektivní začleňování nejen žáků-cizinců, ale všech žáků do základního vzdělávání (10 bodů – viz materiál) 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4e3b30"/>
                </a:solidFill>
                <a:latin typeface="Franklin Gothic Book"/>
              </a:rPr>
              <a:t>Rada Evropy – </a:t>
            </a:r>
            <a:r>
              <a:rPr b="0" lang="cs-CZ" sz="2700" spc="-1" strike="noStrike">
                <a:solidFill>
                  <a:srgbClr val="c17529"/>
                </a:solidFill>
                <a:latin typeface="Franklin Gothic Book"/>
              </a:rPr>
              <a:t>doporučení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pro národní politiky</a:t>
            </a:r>
            <a:r>
              <a:rPr b="1" lang="cs-CZ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jednotlivých zemí, tedy i </a:t>
            </a:r>
            <a:r>
              <a:rPr b="0" lang="cs-CZ" sz="2700" spc="-1" strike="noStrike">
                <a:solidFill>
                  <a:srgbClr val="c17529"/>
                </a:solidFill>
                <a:latin typeface="Franklin Gothic Book"/>
              </a:rPr>
              <a:t>pro </a:t>
            </a:r>
            <a:r>
              <a:rPr b="1" lang="cs-CZ" sz="2700" spc="-1" strike="noStrike">
                <a:solidFill>
                  <a:srgbClr val="c17529"/>
                </a:solidFill>
                <a:latin typeface="Franklin Gothic Book"/>
              </a:rPr>
              <a:t>ČR</a:t>
            </a:r>
            <a:r>
              <a:rPr b="1" lang="cs-CZ" sz="27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17529"/>
                </a:solidFill>
                <a:latin typeface="Franklin Gothic Book"/>
              </a:rPr>
              <a:t>v</a:t>
            </a:r>
            <a:r>
              <a:rPr b="0" lang="cs-CZ" sz="2400" spc="-1" strike="noStrike">
                <a:solidFill>
                  <a:srgbClr val="c17529"/>
                </a:solidFill>
                <a:latin typeface="Franklin Gothic Book"/>
              </a:rPr>
              <a:t>ypracovat a následně realizovat krátkodobý nebo střednědobý plán/program vzdělávání</a:t>
            </a:r>
            <a:r>
              <a:rPr b="1" lang="cs-CZ" sz="24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k začleňování žáků-cizinců do základních škol (pro poč. období 1–2 let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národní strategie využitelná na úrovni regionu i školy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součinnost zúčastněných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samotného žáka-cizin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rodičů žáka-cizin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vedení školy a pedagogického sbor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zřizovatele škol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eziskových organizací (pedagogicko-psychologických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poraden) a dalších organizací zabývajících se integrací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migrantů (azylová centra aj.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17529"/>
                </a:solidFill>
                <a:latin typeface="Franklin Gothic Book"/>
              </a:rPr>
              <a:t>V programu by měly být zohledněny následující skutečnosti a požadavky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A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Žák-cizinec s nulovou i částečnou znalostí českého jazyka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B. Možnost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zařadit žáka-cizince do příslušného ročníku podle jeho způsobilosti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(jak na prvním, tak i druhém stupni základní školy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C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Rozvoj jazykových kompetencí žáka-cizince v klasické třídě i mimo ni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(např. 80% povinná docházka ve vyučování s majoritní většinou a 20% povinné vzdělávání se </a:t>
            </a:r>
            <a:br>
              <a:rPr sz="1800"/>
            </a:b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v českém jazyce, např. za účasti proškoleného pedagoga, asistenta pedagoga, ve spolupráci s pedagogicko-psychologickou poradnou apod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D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Specifická role pedagoga v multikulturní třídě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(učitele jazyků a ostatních vyučovacích předmětů) i role dalších zúčastněných (ředitele, koordinátora, rodiče, neziskové organizací aj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E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Metody, formy a postupy ve výuce češtiny jako druhého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jazyka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F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Rozvoj sociokulturní kompetence pedagoga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, která by zahrnovala osvojení tzv. sociokulturního minima (základy typologie jazyků, odlišné chování, kultura, náboženství aj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G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Úpravu organizační struktury výuky žáků-cizinců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s ohledem na možnosti škol a školských zařízení v ČR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další vzdělávání pedagogických pracovníků (DVPP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programy učitelských oborů na PF a FF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nový předmět „</a:t>
            </a:r>
            <a:r>
              <a:rPr b="1" lang="cs-CZ" sz="3000" spc="-1" strike="noStrike">
                <a:solidFill>
                  <a:srgbClr val="c17529"/>
                </a:solidFill>
                <a:latin typeface="Franklin Gothic Book"/>
              </a:rPr>
              <a:t>Multikulturní pedagogika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zohlednit vícejazyčné a interkulturní postoje a přístupy k žákům-cizincům </a:t>
            </a: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v národním kurikulu a školních vzdělávacích programech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 s ohledem na vývoj integrační politiky v Evropě a v souladu s Radou Evropo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52:33Z</dcterms:created>
  <dc:creator>sindelarova</dc:creator>
  <dc:description/>
  <dc:language>en-US</dc:language>
  <cp:lastModifiedBy>Mirka</cp:lastModifiedBy>
  <dcterms:modified xsi:type="dcterms:W3CDTF">2014-11-05T23:42:45Z</dcterms:modified>
  <cp:revision>15</cp:revision>
  <dc:subject/>
  <dc:title>ZAČLEŇOVÁNÍ ŽÁKŮ-CIZINCŮ  DO ZÁKLADNÍCH ŠKOL</dc:title>
</cp:coreProperties>
</file>