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731-F3CD-4B2D-8412-5F716124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D87-2E99-474C-A6F0-707BEBC9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A46-F7A1-458C-A7A7-259581E2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20B-750B-422F-8BB1-01E120E5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F258-62DF-4938-8AB8-D5336DA7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3D25-9979-4F69-B516-D871627A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F114-972A-4406-8F8C-0885DB2F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D9AD-3396-4080-B402-EAF4AB80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5EEB-A325-44A7-817A-3822FF98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5605-9F04-4563-920E-7DC6AAB6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0B44-4924-4A54-9E21-CC269D8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D49-3E24-4969-9607-F0ECEB07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5108-D712-4698-A025-BAD607F1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E14B-1BB5-487B-89D4-17A34861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2624-56EF-4F41-889E-B37AC1A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AAAE-9D0F-46FC-B91B-ACC7439B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41C3-EA4F-4AF7-A066-30473710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2AAB-E1F8-4175-A1CB-51F15B42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C615-9BC8-47EE-B97C-DBDDCB2E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E256-9500-4ED8-9733-BD9DCCC2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1981-AE9B-4666-BC41-6AA90919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49B9-A148-41D6-96FB-4AAC9C98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975-FA6C-4F83-998D-A6908ED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C642-74B7-47B3-B688-6846FCBE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870A-2AD2-4413-B6C2-8CFFFD3D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D5D6-BC4F-4439-86A5-B3DCF484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0105-5F36-420F-91F0-CFB32B71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9F04-B976-4040-891C-682301E1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CE7E-3575-4CF7-AAF3-3547D4F6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49D2-372F-47CD-AFFA-0C8BE4AB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B3E5-EFA4-4D5E-A287-0124E9CC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B7E0-FC55-4BFD-A723-93F8D4B9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EED0-8309-4B04-AE47-78012182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D19-1119-4E70-8039-1389C37D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80864-C11C-472F-93F1-1141691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91B4-E851-441E-9435-2068AE25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6A44-84F5-4EF3-B1C0-517C9A63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FE5E-9344-41D0-8B8C-D5BA410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98B9-278C-4DC0-B6D7-76C3F81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11E3-61D6-4E86-9967-03D1A07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1953-C18A-471C-94F0-F227BE58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46A95-B936-4B79-A520-419360EF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DA27-9AB3-4868-ACD5-852DDF3C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F02A-0CBB-45F1-8D14-8E6EC9FF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214-73B7-4FF9-9764-DF8598EE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74AF-95EA-430C-BFED-51F6F116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C3ECF-708F-49FB-BAE9-B86E3B50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EA330-427D-44C9-B55D-308E22F9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7084-44F5-4118-A0A1-FDD1C7A7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7C041-A21F-4244-95D2-C6408B35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7BDF-5549-45AA-A614-E1D5A600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9812D-8F4F-4459-9A56-5F13DD7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EC5FC-54C5-41EF-ACF7-45D98682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DC36F-5922-46E4-B0C5-3D5F108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5BD1A-E8B4-4880-BF9F-CE4C0459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F0B-81A7-4BF2-A5DD-7F6548C3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2A41B-E7DB-4097-B692-832BFE79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6044C-DAF0-4CE6-A75B-DBA3E14F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DFEE7-7412-48DE-BDAE-3E11DCC9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760F1-2F24-4B6D-AB6A-7B4E29A7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2CCA2-1750-4513-B32E-1521B19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C24EC-3236-4B3F-9052-26BA46FC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875A9-26DF-4F19-8911-3D0C0CA9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5555-89BE-44E4-81E2-17D0FD5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8F16-181E-4ED7-94C3-FAF29E6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925EB-E4AA-4536-A957-4CC2E3CF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3FD-E035-41A7-9CF0-31C65835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27D93-B502-4F89-B42C-16458164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B3DB2-DD2A-4343-AF45-5DA975F0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0BD53-14FB-440B-8A93-D1597FA3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BFA7D-C906-41DC-893E-756716B4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FC510-B99C-4507-8165-5F567152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B58DC-2DBC-4E72-AE2B-243FFC7E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01CD0-9DC3-4B2A-954D-B49A344E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02000-0723-4BAF-B7F2-0CE7E8A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BBC89-7269-4DED-BBEF-F2C98C74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922F-9B2C-49B8-9C8B-6D410157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091-9901-4A27-A37A-5C9596D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8A98C-DBDB-40A6-843D-B1AADAB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3CE05-BAA3-4E86-8CD7-364E460E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CAA8E-9957-4AB2-BD0A-4211595A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09B54-F1AB-4DFA-84A8-B262EDC3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3D011-B782-478F-B0B0-5154C7D6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D5084-1B9F-4748-A1F7-7D35A03D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D8FD7-3888-4F78-80BE-6839558D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D7B3-2C1B-430E-B41C-2A828E29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1ABE5-B33B-4236-A699-AB786220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25B0A-6D01-4E24-ADF7-1FFB179A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9C2-9ACE-4F9C-88D5-3A2FA7D6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8BDD0-B649-40FE-A677-571C9E71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BC67E-40A8-4021-904D-FAE8BAEB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F2D32-564D-4897-9534-D54BC89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80679-C353-407A-A883-8DBD3671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039D-5846-49BC-95B4-6A9B4D3C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FF110-48E4-4701-BE68-95C8632A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8274-CA08-4567-9495-AAC19FCD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0445-9CBC-4DDB-B7D6-BD73A80D2BA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Přímá spojnice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Přímá spojnice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671B-6F76-42F0-8580-000A6962A0C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Přímá spojnice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5F70-223E-4BF6-9673-000EC2129FE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nice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5" name="Přímá spojnice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96F-D5D7-41AA-AFC1-D36988E423B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42C4-4396-4A53-8E4F-682E62EBC7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Přímá spojnice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30" name="Přímá spojnice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7CD0-A6BC-4433-A6BC-E05E50D252A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E1F-882C-4812-B143-54F2AD6E73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5A1A-8A1F-4F38-8303-7ECA2E4665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jp.rvp.cz/" TargetMode="External"/><Relationship Id="rId4" Type="http://schemas.openxmlformats.org/officeDocument/2006/relationships/hyperlink" Target="http://www.ejp.rvp.cz/" TargetMode="External"/><Relationship Id="rId5" Type="http://schemas.openxmlformats.org/officeDocument/2006/relationships/hyperlink" Target="http://www.ejp.rvp.cz/" TargetMode="External"/><Relationship Id="rId6" Type="http://schemas.openxmlformats.org/officeDocument/2006/relationships/hyperlink" Target="http://www.ejp.rvp.cz/" TargetMode="External"/><Relationship Id="rId7" Type="http://schemas.openxmlformats.org/officeDocument/2006/relationships/hyperlink" Target="http://www.ejp.rvp.cz/" TargetMode="External"/><Relationship Id="rId8" Type="http://schemas.openxmlformats.org/officeDocument/2006/relationships/hyperlink" Target="http://www.ejp.rvp.cz/" TargetMode="External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cml.at/" TargetMode="External"/><Relationship Id="rId4" Type="http://schemas.openxmlformats.org/officeDocument/2006/relationships/hyperlink" Target="http://www.ecml.at/" TargetMode="External"/><Relationship Id="rId5" Type="http://schemas.openxmlformats.org/officeDocument/2006/relationships/hyperlink" Target="http://www.ecml.at/" TargetMode="External"/><Relationship Id="rId6" Type="http://schemas.openxmlformats.org/officeDocument/2006/relationships/hyperlink" Target="http://www.ecml.at/" TargetMode="External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2"/>
          <a:stretch/>
        </p:blipFill>
        <p:spPr>
          <a:xfrm>
            <a:off x="298440" y="-42840"/>
            <a:ext cx="8699400" cy="1511280"/>
          </a:xfrm>
          <a:prstGeom prst="rect">
            <a:avLst/>
          </a:prstGeom>
          <a:ln w="0">
            <a:noFill/>
          </a:ln>
        </p:spPr>
      </p:pic>
      <p:pic>
        <p:nvPicPr>
          <p:cNvPr id="356" name="Zástupný symbol pro obsah 2" descr=""/>
          <p:cNvPicPr/>
          <p:nvPr/>
        </p:nvPicPr>
        <p:blipFill>
          <a:blip r:embed="rId3"/>
          <a:stretch/>
        </p:blipFill>
        <p:spPr>
          <a:xfrm>
            <a:off x="298440" y="1547640"/>
            <a:ext cx="86994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91581f"/>
                </a:solidFill>
                <a:latin typeface="Franklin Gothic Book"/>
              </a:rPr>
              <a:t>Terminologi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cs-CZ" sz="2400" spc="-1" strike="noStrike">
                <a:solidFill>
                  <a:srgbClr val="c17529"/>
                </a:solidFill>
                <a:latin typeface="Franklin Gothic Book"/>
              </a:rPr>
              <a:t>interkulturní 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kompetence, výchova a vzdělávání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plurilingvní vzdělávání,vícejazyčný kontex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multikulturní třída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v souvislosti </a:t>
            </a:r>
            <a:r>
              <a:rPr b="1" lang="cs-CZ" sz="2400" spc="-1" strike="noStrike">
                <a:solidFill>
                  <a:srgbClr val="c17529"/>
                </a:solidFill>
                <a:latin typeface="Franklin Gothic Book"/>
              </a:rPr>
              <a:t>s úrovní ovládání jazyka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jazyk periferní, jazyk odborný a jazyk akademick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označení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L1 </a:t>
            </a: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pro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mateřský jazyk cizinců </a:t>
            </a: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a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L2 </a:t>
            </a: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pro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první cizí jazyk cizinců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užívat název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„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Languages of schooling“/“Langue(s) Scholarisation“ - „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jazyky užívané ve škole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“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nahradit  termíny „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cizí jazyk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“ a „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další cizí jazyk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“ z RVP podle koncepce „Languages of schooling“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vývoj deskriptorů A1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1 podle SERR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 žáky-cizince v konkrétním národním kontextu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cs-CZ" sz="1600" spc="-1" strike="noStrike">
                <a:solidFill>
                  <a:srgbClr val="4e3b30"/>
                </a:solidFill>
                <a:latin typeface="Franklin Gothic Book"/>
              </a:rPr>
              <a:t>RE se nebude podílet na „jednotném Rámci“ a jednotných deskriptorech pro žáky-cizince)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užívat 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Evropské jazykové portfolio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ww.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ejp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rvp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.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cz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(jaromira.sindelarova@gmail.com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mezivládní seminář Rady Evropy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«Relever le défi des classes multilingues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tirer partie des répertoires plurilingues, gérer les moments de transitions et développer les compétences en langue(s) de scolarisation»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1581f"/>
                </a:solidFill>
                <a:latin typeface="Franklin Gothic Book"/>
              </a:rPr>
              <a:t>Štrasburk – 7. a 8. března 201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c17529"/>
                </a:solidFill>
                <a:latin typeface="Franklin Gothic Book"/>
              </a:rPr>
              <a:t>Cíl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nové vzdělávací koncepty</a:t>
            </a:r>
            <a:r>
              <a:rPr b="0" lang="cs-CZ" sz="22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0" lang="cs-CZ" sz="2200" spc="-1" strike="noStrike">
                <a:solidFill>
                  <a:srgbClr val="4e3b30"/>
                </a:solidFill>
                <a:latin typeface="Franklin Gothic Book"/>
              </a:rPr>
              <a:t>při hledání společného interkulturního dialogu ve vzdělávání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profesionalita pedagogů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výklad a obsah některých pojmů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činnost Evropského centra pro moderní jazyky </a:t>
            </a:r>
            <a:r>
              <a:rPr b="0" lang="cs-CZ" sz="2200" spc="-1" strike="noStrike">
                <a:solidFill>
                  <a:srgbClr val="4e3b30"/>
                </a:solidFill>
                <a:latin typeface="Franklin Gothic Book"/>
              </a:rPr>
              <a:t>(ECML) v </a:t>
            </a:r>
            <a:r>
              <a:rPr b="1" lang="cs-CZ" sz="2200" spc="-1" strike="noStrike">
                <a:solidFill>
                  <a:srgbClr val="4e3b30"/>
                </a:solidFill>
                <a:latin typeface="Franklin Gothic Book"/>
              </a:rPr>
              <a:t>Grazu</a:t>
            </a:r>
            <a:r>
              <a:rPr b="0" lang="cs-CZ" sz="2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tvorba příruček na podporu moderních jazyků pro multikulturní třídy (dostupné na 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ww.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ecml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.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at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důraz na </a:t>
            </a:r>
            <a:r>
              <a:rPr b="1" lang="cs-CZ" sz="1900" spc="-1" strike="noStrike">
                <a:solidFill>
                  <a:srgbClr val="4e3b30"/>
                </a:solidFill>
                <a:latin typeface="Franklin Gothic Book"/>
              </a:rPr>
              <a:t>sociokulturní aspekt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 při začleňování žáků-cizinců do školního prostředí, na dovednosti a </a:t>
            </a:r>
            <a:r>
              <a:rPr b="0" i="1" lang="cs-CZ" sz="1900" spc="-1" strike="noStrike">
                <a:solidFill>
                  <a:srgbClr val="4e3b30"/>
                </a:solidFill>
                <a:latin typeface="Franklin Gothic Book"/>
              </a:rPr>
              <a:t>postoje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 pramenící z rozdílných kultur a jazykových odlišností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4e3b30"/>
                </a:solidFill>
                <a:latin typeface="Franklin Gothic Book"/>
              </a:rPr>
              <a:t>klasifikace jazyků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, jimiž jsou žáci ovlivňováni ve škole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(např. „</a:t>
            </a:r>
            <a:r>
              <a:rPr b="0" i="1" lang="cs-CZ" sz="1900" spc="-1" strike="noStrike">
                <a:solidFill>
                  <a:srgbClr val="4e3b30"/>
                </a:solidFill>
                <a:latin typeface="Franklin Gothic Book"/>
              </a:rPr>
              <a:t>Languages of schooling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“ je pojem zahrnující: </a:t>
            </a:r>
            <a:r>
              <a:rPr b="0" i="1" lang="cs-CZ" sz="1900" spc="-1" strike="noStrike">
                <a:solidFill>
                  <a:srgbClr val="4e3b30"/>
                </a:solidFill>
                <a:latin typeface="Franklin Gothic Book"/>
              </a:rPr>
              <a:t>vyučovací jazyk, jazyk regionální, nářeční, jazyk minorit a migrantů, jazyk mateřský a ostatní moderní a klasické jazyky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7529"/>
                </a:solidFill>
                <a:latin typeface="Franklin Gothic Book"/>
              </a:rPr>
              <a:t>2 tendence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, a to ve vztahu k roli pedagoga v multikulturní třídě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1. zevrubná </a:t>
            </a:r>
            <a:r>
              <a:rPr b="1" lang="cs-CZ" sz="2800" spc="-1" strike="noStrike">
                <a:solidFill>
                  <a:srgbClr val="c17529"/>
                </a:solidFill>
                <a:latin typeface="Franklin Gothic Book"/>
              </a:rPr>
              <a:t>znalost všech mateřských jazyků 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žáků-cizinců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1" lang="cs-CZ" sz="2800" spc="-1" strike="noStrike">
                <a:solidFill>
                  <a:srgbClr val="c17529"/>
                </a:solidFill>
                <a:latin typeface="Franklin Gothic Book"/>
              </a:rPr>
              <a:t>znalost sociokulturního prostředí </a:t>
            </a:r>
            <a:r>
              <a:rPr b="0" lang="cs-CZ" sz="2800" spc="-1" strike="noStrike">
                <a:solidFill>
                  <a:srgbClr val="c17529"/>
                </a:solidFill>
                <a:latin typeface="Franklin Gothic Book"/>
              </a:rPr>
              <a:t>žáka-cizince</a:t>
            </a:r>
            <a:r>
              <a:rPr b="1" lang="cs-CZ" sz="2800" spc="-1" strike="noStrike">
                <a:solidFill>
                  <a:srgbClr val="c17529"/>
                </a:solidFill>
                <a:latin typeface="Franklin Gothic Book"/>
              </a:rPr>
              <a:t> a základů jeho mateřského jazyk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4e3b30"/>
                </a:solidFill>
                <a:latin typeface="Franklin Gothic Book"/>
              </a:rPr>
              <a:t>Úloha pedagoga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: prostřednictvím základních znalostí typologie jazyků a kulturních odlišností </a:t>
            </a:r>
            <a:r>
              <a:rPr b="0" i="1" lang="cs-CZ" sz="2800" spc="-1" strike="noStrike">
                <a:solidFill>
                  <a:srgbClr val="4e3b30"/>
                </a:solidFill>
                <a:latin typeface="Franklin Gothic Book"/>
              </a:rPr>
              <a:t>budovat pozitivní postoje 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u svých žák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tegrační program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apř. ve Finsku, Irsku, Norsku a Belgii v rámci krátkodobých a střednědobých program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7529"/>
                </a:solidFill>
                <a:latin typeface="Franklin Gothic Book"/>
              </a:rPr>
              <a:t>Finsko -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program rozvoje multikulturních dovedností ve všeobecném vzdělávání (2007–2011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příliv národností z Ruska, Somálska, Albánie, Estonska a příslušníků kurdské národnosti (povinná školní docházka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7529"/>
                </a:solidFill>
                <a:latin typeface="Franklin Gothic Book"/>
              </a:rPr>
              <a:t>Finský program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je zaměřen na žáky-migranty 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a) v předškolním věku (6 let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b) na ZŠ (7–16 let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škola získává dvojitý grant na žáka-cizince v jeho prvním roce studia, individuální vzdělávací plán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možnost studovat švédštinu, finštinu a svůj rodný jazyk ve skupinové výuce vedené učitelem a jeho asistentem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povinností zřizovatele je nabídnout žáku-cizinci výuku v jeho rodném jazyce, přičemž finský školský zákon garantuje výuku náboženství v rodném jazyce žáka-cizince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Finsko vypracovalo kurikulum pro žáky/studenty – finština (švédština) jako cizí jazyk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17529"/>
                </a:solidFill>
                <a:latin typeface="Franklin Gothic Book"/>
              </a:rPr>
              <a:t>Pedagogové</a:t>
            </a: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 žáků-cizinců jsou doškolováni pro výuku finštiny jako cizího jazyka; finančně hodnoceni už i za výuku minimálně dvou žáků-cizinců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jednotlivé obce pak mají vypracovány multikulturní integrační programy pro efektivní začleňování nejen žáků-cizinců, ale všech žáků do základního vzdělávání (10 bodů – viz materiál) 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4e3b30"/>
                </a:solidFill>
                <a:latin typeface="Franklin Gothic Book"/>
              </a:rPr>
              <a:t>Rada Evropy – </a:t>
            </a:r>
            <a:r>
              <a:rPr b="0" lang="cs-CZ" sz="2700" spc="-1" strike="noStrike">
                <a:solidFill>
                  <a:srgbClr val="c17529"/>
                </a:solidFill>
                <a:latin typeface="Franklin Gothic Book"/>
              </a:rPr>
              <a:t>doporučení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pro národní politiky</a:t>
            </a:r>
            <a:r>
              <a:rPr b="1" lang="cs-CZ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jednotlivých zemí, tedy i </a:t>
            </a:r>
            <a:r>
              <a:rPr b="0" lang="cs-CZ" sz="2700" spc="-1" strike="noStrike">
                <a:solidFill>
                  <a:srgbClr val="c17529"/>
                </a:solidFill>
                <a:latin typeface="Franklin Gothic Book"/>
              </a:rPr>
              <a:t>pro </a:t>
            </a:r>
            <a:r>
              <a:rPr b="1" lang="cs-CZ" sz="2700" spc="-1" strike="noStrike">
                <a:solidFill>
                  <a:srgbClr val="c17529"/>
                </a:solidFill>
                <a:latin typeface="Franklin Gothic Book"/>
              </a:rPr>
              <a:t>ČR</a:t>
            </a:r>
            <a:r>
              <a:rPr b="1" lang="cs-CZ" sz="27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17529"/>
                </a:solidFill>
                <a:latin typeface="Franklin Gothic Book"/>
              </a:rPr>
              <a:t>v</a:t>
            </a:r>
            <a:r>
              <a:rPr b="0" lang="cs-CZ" sz="2400" spc="-1" strike="noStrike">
                <a:solidFill>
                  <a:srgbClr val="c17529"/>
                </a:solidFill>
                <a:latin typeface="Franklin Gothic Book"/>
              </a:rPr>
              <a:t>ypracovat a následně realizovat krátkodobý nebo střednědobý plán/program vzdělávání</a:t>
            </a:r>
            <a:r>
              <a:rPr b="1" lang="cs-CZ" sz="24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k začleňování žáků-cizinců do základních škol (pro poč. období 1–2 let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národní strategie využitelná na úrovni regionu i školy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součinnost zúčastněných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samotného žáka-cizin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rodičů žáka-cizin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vedení školy a pedagogického sbor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zřizovatele škol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eziskových organizací (pedagogicko-psychologických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poraden) a dalších organizací zabývajících se integrací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migrantů (azylová centra aj.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17529"/>
                </a:solidFill>
                <a:latin typeface="Franklin Gothic Book"/>
              </a:rPr>
              <a:t>V programu by měly být zohledněny následující skutečnosti a požadavky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A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Žák-cizinec s nulovou i částečnou znalostí českého jazyka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B. Možnost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zařadit žáka-cizince do příslušného ročníku podle jeho způsobilosti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(jak na prvním, tak i druhém stupni základní školy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C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Rozvoj jazykových kompetencí žáka-cizince v klasické třídě i mimo ni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(např. 80% povinná docházka ve vyučování s majoritní většinou a 20% povinné vzdělávání se </a:t>
            </a:r>
            <a:br>
              <a:rPr sz="1800"/>
            </a:b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v českém jazyce, např. za účasti proškoleného pedagoga, asistenta pedagoga, ve spolupráci s pedagogicko-psychologickou poradnou apod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D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Specifická role pedagoga v multikulturní třídě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(učitele jazyků a ostatních vyučovacích předmětů) i role dalších zúčastněných (ředitele, koordinátora, rodiče, neziskové organizací aj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E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Metody, formy a postupy ve výuce češtiny jako druhého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jazyka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F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Rozvoj sociokulturní kompetence pedagoga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, která by zahrnovala osvojení tzv. sociokulturního minima (základy typologie jazyků, odlišné chování, kultura, náboženství aj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G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Úpravu organizační struktury výuky žáků-cizinců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s ohledem na možnosti škol a školských zařízení v ČR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další vzdělávání pedagogických pracovníků (DVPP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programy učitelských oborů na PF a FF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nový předmět „</a:t>
            </a:r>
            <a:r>
              <a:rPr b="1" lang="cs-CZ" sz="3000" spc="-1" strike="noStrike">
                <a:solidFill>
                  <a:srgbClr val="c17529"/>
                </a:solidFill>
                <a:latin typeface="Franklin Gothic Book"/>
              </a:rPr>
              <a:t>Multikulturní pedagogika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zohlednit vícejazyčné a interkulturní postoje a přístupy k žákům-cizincům </a:t>
            </a: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v národním kurikulu a školních vzdělávacích programech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 s ohledem na vývoj integrační politiky v Evropě a v souladu s Radou Evropo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52:33Z</dcterms:created>
  <dc:creator>sindelarova</dc:creator>
  <dc:description/>
  <dc:language>en-US</dc:language>
  <cp:lastModifiedBy>Mirka</cp:lastModifiedBy>
  <dcterms:modified xsi:type="dcterms:W3CDTF">2014-11-05T23:42:45Z</dcterms:modified>
  <cp:revision>15</cp:revision>
  <dc:subject/>
  <dc:title>ZAČLEŇOVÁNÍ ŽÁKŮ-CIZINCŮ  DO ZÁKLADNÍCH ŠKOL</dc:title>
</cp:coreProperties>
</file>