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DCB-E15D-459E-B41F-2C54275A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180-FE72-4336-B42E-10FC0079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6A4-50EC-48E3-AFAF-F0C8897F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A5A-4B5A-4BB5-B6C0-8D011C4E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6121-2514-46F7-9109-598531ED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3B35-9FD6-4297-B55F-A9C3FA50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FDF9-5CFB-4AEF-8F9D-5B4A8371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8206-FC46-4D67-A510-4035F56F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F7A6-2F9E-46C9-97CE-EF165B95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5BA2-20B4-4F05-9C02-CBBB22D7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F864-EE5C-4F4B-A2AB-8C8F0121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380-E5BB-41FC-8922-E932D174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310F-E46C-4A08-934A-5A8F3D2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E4CC-E94B-4154-9F4F-EF2FE64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4F02-3473-46C7-BECB-C7B24CD2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565F-4E72-480D-9048-B0AFC5BE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01AB-5C0F-4E04-8515-3991D1F4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9F96-BEAA-4CDC-9898-4C88F25A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50B4-E527-4DD1-A55F-4DEE1FD1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3B29-516B-493E-809A-CC0486FB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B4D5-1D85-43F6-8F89-AC388B93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2F88-8C3F-4766-9296-924EFDFA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174-A391-46F3-94C6-78D0EA03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1D16-A4EE-4BC7-AF7D-1BF2B7F4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2A1C-1754-4DFA-B3D0-BA7CAB08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B777-C723-458E-8221-17443049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74C1-C03F-4BBE-BF4A-D90FBD66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1CC5-D31B-4A86-8083-B7E80B81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31FF-0FF6-42A0-ACD9-59ADB87C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D4BF-E1F7-4E6D-96F5-FEA0F6DC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118C-0B86-4946-A26E-D16FF6C8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F9CF-E763-4A36-82CA-389012EF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E1BA-05C8-4D5A-8A12-418CB427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017-9660-40EF-8BA6-387C321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3879-B895-46ED-9F29-30BB9FAB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A0B0-3824-4E3C-A97A-274FB921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E35D-9394-4A45-BBD7-F89E13F8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476D-31EE-43B1-BD02-00E8D80E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58BB-9231-44F8-A127-5FB093B9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4383-BC48-472A-9A76-C658A0C9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7F03-3495-4C5C-B760-313B7D3E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800C-4196-4C91-A43A-D32F520D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DFD3-E9C3-460C-8644-00561F67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1536-641B-459A-9761-E0A482DC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996-DB6D-427B-AF0F-19260C15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B2DF-279B-4563-A662-ABADC34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9DA10-2FB9-4490-86C3-F42F512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F155-F30F-4053-A969-B39D8CE3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6B4CC-40E4-4547-B9F3-EFDB9CAB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41CF7-47E1-4DE7-82DF-4E5B5579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8D9A-D9E9-46DA-9DB9-C57DE207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6C0E6-C828-4E47-AF39-5EF2472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8FCA1-CD83-4E5D-9C55-C4D7AB4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440F0-E21C-47BF-BE5D-E90CD7B5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B99B-31B2-461D-909C-4839D7CE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3A7-6035-402F-B06C-3F1FB01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5058-6C8B-4866-BA76-B6D6A9D4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2FEAA-0344-4D0B-9459-B41D8A59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4CDE2-728D-4B00-9C92-0001831F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A4DB2-73EB-4DE9-AC87-06987C53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9A902-44FC-4ACF-BAB9-26175F91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0F9FF-FF0F-401B-BD16-828B41AE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CD38D-2B4D-427D-9DBA-ABF7E679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1F6F8-B3C5-4966-B5E8-BF7A353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3FBBF-74EE-40F3-92CA-D02F9B4C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41235-4EE5-430F-9C05-46FD9E80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F53-0E35-46CF-A825-BD1CC5D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6B513-C5CE-44B5-985C-6EDE834C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5E3FD-AA2A-424D-B55E-5207E1B5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0C53B-2855-4B33-A343-F67506FC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F6010-18C1-4B30-B31F-90CAA85B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75F1F-7E93-44C5-A5D1-B56899A9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8E167-4ACA-4CBA-B89D-D0D79E27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A006B-646B-4840-8789-46630756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E91F6-57D9-4843-B6D2-38D50D92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246E5-F24E-41F0-8E1A-760F1730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EDD40-B428-49EE-815C-4EAE0D0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C86-F31B-42E2-803E-27BCFC45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CFC59-34FE-4621-83B7-7637E934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021CB-3FCD-452A-BC86-7105166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87C2F-D0A4-43DD-AE32-877DF7BE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97FBE-9B26-48F2-B599-4B7FD008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A0678-0BB0-42EA-A225-577BF44C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1E7C1-6AFD-48DC-9B60-C1029A7F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9549-D068-4F65-B0DA-963B5ECC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636EB-AF9B-4CCF-96E5-D97FA0D2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4561E-1E20-4A55-B694-EF095A02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52B7B-B01E-4B46-9B3C-4628DAB3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5F7-76A2-45D2-BD18-559A8EB8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41D7-0414-4857-AF85-4C793F3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8A4C5-D2DE-4405-9455-82428800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3038A-E261-47BE-A522-12B8A8F6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F589C-6761-4484-91AB-F9E91D65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A3D4E-7A86-4A0C-AE7C-F891F8AE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EAE40-AB1A-453B-81CF-378CF814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254E2-D7E4-4F69-AB6C-F5D18FF8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1439-53FB-4B6A-A356-42721A5760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Přímá spojnice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Přímá spojnice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10ED-6979-4267-A5F0-30AD9438C58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Přímá spojnice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3EC2-78DA-43B3-9657-25F288884F7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nice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5" name="Přímá spojnice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8694-8497-4444-BB98-98A3017418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9501-C5B6-4DE4-A533-50A6A888CB2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Přímá spojnice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30" name="Přímá spojnice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AA5-4AD4-49BD-AB17-4D808DB8FCF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0CBC-3695-4477-A949-D26DCE3C33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5C98-EF16-4168-94C8-4BF47D2200C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jp.rvp.cz/" TargetMode="External"/><Relationship Id="rId4" Type="http://schemas.openxmlformats.org/officeDocument/2006/relationships/hyperlink" Target="http://www.ejp.rvp.cz/" TargetMode="External"/><Relationship Id="rId5" Type="http://schemas.openxmlformats.org/officeDocument/2006/relationships/hyperlink" Target="http://www.ejp.rvp.cz/" TargetMode="External"/><Relationship Id="rId6" Type="http://schemas.openxmlformats.org/officeDocument/2006/relationships/hyperlink" Target="http://www.ejp.rvp.cz/" TargetMode="External"/><Relationship Id="rId7" Type="http://schemas.openxmlformats.org/officeDocument/2006/relationships/hyperlink" Target="http://www.ejp.rvp.cz/" TargetMode="External"/><Relationship Id="rId8" Type="http://schemas.openxmlformats.org/officeDocument/2006/relationships/hyperlink" Target="http://www.ejp.rvp.cz/" TargetMode="External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cml.at/" TargetMode="External"/><Relationship Id="rId4" Type="http://schemas.openxmlformats.org/officeDocument/2006/relationships/hyperlink" Target="http://www.ecml.at/" TargetMode="External"/><Relationship Id="rId5" Type="http://schemas.openxmlformats.org/officeDocument/2006/relationships/hyperlink" Target="http://www.ecml.at/" TargetMode="External"/><Relationship Id="rId6" Type="http://schemas.openxmlformats.org/officeDocument/2006/relationships/hyperlink" Target="http://www.ecml.at/" TargetMode="External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2"/>
          <a:stretch/>
        </p:blipFill>
        <p:spPr>
          <a:xfrm>
            <a:off x="298440" y="-42840"/>
            <a:ext cx="8699400" cy="1511280"/>
          </a:xfrm>
          <a:prstGeom prst="rect">
            <a:avLst/>
          </a:prstGeom>
          <a:ln w="0">
            <a:noFill/>
          </a:ln>
        </p:spPr>
      </p:pic>
      <p:pic>
        <p:nvPicPr>
          <p:cNvPr id="356" name="Zástupný symbol pro obsah 2" descr=""/>
          <p:cNvPicPr/>
          <p:nvPr/>
        </p:nvPicPr>
        <p:blipFill>
          <a:blip r:embed="rId3"/>
          <a:stretch/>
        </p:blipFill>
        <p:spPr>
          <a:xfrm>
            <a:off x="298440" y="1547640"/>
            <a:ext cx="86994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91581f"/>
                </a:solidFill>
                <a:latin typeface="Franklin Gothic Book"/>
              </a:rPr>
              <a:t>Terminologi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cs-CZ" sz="2400" spc="-1" strike="noStrike">
                <a:solidFill>
                  <a:srgbClr val="c17529"/>
                </a:solidFill>
                <a:latin typeface="Franklin Gothic Book"/>
              </a:rPr>
              <a:t>interkulturní 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kompetence, výchova a vzdělávání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plurilingvní vzdělávání,vícejazyčný kontex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multikulturní třída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v souvislosti </a:t>
            </a:r>
            <a:r>
              <a:rPr b="1" lang="cs-CZ" sz="2400" spc="-1" strike="noStrike">
                <a:solidFill>
                  <a:srgbClr val="c17529"/>
                </a:solidFill>
                <a:latin typeface="Franklin Gothic Book"/>
              </a:rPr>
              <a:t>s úrovní ovládání jazyka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jazyk periferní, jazyk odborný a jazyk akademick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označení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L1 </a:t>
            </a: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pro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mateřský jazyk cizinců </a:t>
            </a: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a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L2 </a:t>
            </a: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pro </a:t>
            </a: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první cizí jazyk cizinců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užívat název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„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Languages of schooling“/“Langue(s) Scholarisation“ - „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jazyky užívané ve škole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“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nahradit  termíny „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cizí jazyk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“ a „</a:t>
            </a:r>
            <a:r>
              <a:rPr b="1" i="1" lang="cs-CZ" sz="2400" spc="-1" strike="noStrike">
                <a:solidFill>
                  <a:srgbClr val="4e3b30"/>
                </a:solidFill>
                <a:latin typeface="Franklin Gothic Book"/>
              </a:rPr>
              <a:t>další cizí jazyk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“ z RVP podle koncepce „Languages of schooling“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vývoj deskriptorů A1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1 podle SERR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 žáky-cizince v konkrétním národním kontextu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cs-CZ" sz="1600" spc="-1" strike="noStrike">
                <a:solidFill>
                  <a:srgbClr val="4e3b30"/>
                </a:solidFill>
                <a:latin typeface="Franklin Gothic Book"/>
              </a:rPr>
              <a:t>RE se nebude podílet na „jednotném Rámci“ a jednotných deskriptorech pro žáky-cizince)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užívat 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Evropské jazykové portfolio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ww.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ejp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rvp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.</a:t>
            </a:r>
            <a:r>
              <a:rPr b="0" lang="cs-CZ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cz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(jaromira.sindelarova@gmail.com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mezivládní seminář Rady Evropy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«Relever le défi des classes multilingues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tirer partie des répertoires plurilingues, gérer les moments de transitions et développer les compétences en langue(s) de scolarisation»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1581f"/>
                </a:solidFill>
                <a:latin typeface="Franklin Gothic Book"/>
              </a:rPr>
              <a:t>Štrasburk – 7. a 8. března 201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c17529"/>
                </a:solidFill>
                <a:latin typeface="Franklin Gothic Book"/>
              </a:rPr>
              <a:t>Cíl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nové vzdělávací koncepty</a:t>
            </a:r>
            <a:r>
              <a:rPr b="0" lang="cs-CZ" sz="22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0" lang="cs-CZ" sz="2200" spc="-1" strike="noStrike">
                <a:solidFill>
                  <a:srgbClr val="4e3b30"/>
                </a:solidFill>
                <a:latin typeface="Franklin Gothic Book"/>
              </a:rPr>
              <a:t>při hledání společného interkulturního dialogu ve vzdělávání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profesionalita pedagogů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výklad a obsah některých pojmů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17529"/>
                </a:solidFill>
                <a:latin typeface="Franklin Gothic Book"/>
              </a:rPr>
              <a:t>činnost Evropského centra pro moderní jazyky </a:t>
            </a:r>
            <a:r>
              <a:rPr b="0" lang="cs-CZ" sz="2200" spc="-1" strike="noStrike">
                <a:solidFill>
                  <a:srgbClr val="4e3b30"/>
                </a:solidFill>
                <a:latin typeface="Franklin Gothic Book"/>
              </a:rPr>
              <a:t>(ECML) v </a:t>
            </a:r>
            <a:r>
              <a:rPr b="1" lang="cs-CZ" sz="2200" spc="-1" strike="noStrike">
                <a:solidFill>
                  <a:srgbClr val="4e3b30"/>
                </a:solidFill>
                <a:latin typeface="Franklin Gothic Book"/>
              </a:rPr>
              <a:t>Grazu</a:t>
            </a:r>
            <a:r>
              <a:rPr b="0" lang="cs-CZ" sz="2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tvorba příruček na podporu moderních jazyků pro multikulturní třídy (dostupné na 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ww.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ecml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.</a:t>
            </a:r>
            <a:r>
              <a:rPr b="0" lang="cs-CZ" sz="19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at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důraz na </a:t>
            </a:r>
            <a:r>
              <a:rPr b="1" lang="cs-CZ" sz="1900" spc="-1" strike="noStrike">
                <a:solidFill>
                  <a:srgbClr val="4e3b30"/>
                </a:solidFill>
                <a:latin typeface="Franklin Gothic Book"/>
              </a:rPr>
              <a:t>sociokulturní aspekt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 při začleňování žáků-cizinců do školního prostředí, na dovednosti a </a:t>
            </a:r>
            <a:r>
              <a:rPr b="0" i="1" lang="cs-CZ" sz="1900" spc="-1" strike="noStrike">
                <a:solidFill>
                  <a:srgbClr val="4e3b30"/>
                </a:solidFill>
                <a:latin typeface="Franklin Gothic Book"/>
              </a:rPr>
              <a:t>postoje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 pramenící z rozdílných kultur a jazykových odlišností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4e3b30"/>
                </a:solidFill>
                <a:latin typeface="Franklin Gothic Book"/>
              </a:rPr>
              <a:t>klasifikace jazyků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, jimiž jsou žáci ovlivňováni ve škole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08440" indent="-2214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(např. „</a:t>
            </a:r>
            <a:r>
              <a:rPr b="0" i="1" lang="cs-CZ" sz="1900" spc="-1" strike="noStrike">
                <a:solidFill>
                  <a:srgbClr val="4e3b30"/>
                </a:solidFill>
                <a:latin typeface="Franklin Gothic Book"/>
              </a:rPr>
              <a:t>Languages of schooling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“ je pojem zahrnující: </a:t>
            </a:r>
            <a:r>
              <a:rPr b="0" i="1" lang="cs-CZ" sz="1900" spc="-1" strike="noStrike">
                <a:solidFill>
                  <a:srgbClr val="4e3b30"/>
                </a:solidFill>
                <a:latin typeface="Franklin Gothic Book"/>
              </a:rPr>
              <a:t>vyučovací jazyk, jazyk regionální, nářeční, jazyk minorit a migrantů, jazyk mateřský a ostatní moderní a klasické jazyky</a:t>
            </a:r>
            <a:r>
              <a:rPr b="0" lang="cs-CZ" sz="19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7529"/>
                </a:solidFill>
                <a:latin typeface="Franklin Gothic Book"/>
              </a:rPr>
              <a:t>2 tendence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, a to ve vztahu k roli pedagoga v multikulturní třídě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1. zevrubná </a:t>
            </a:r>
            <a:r>
              <a:rPr b="1" lang="cs-CZ" sz="2800" spc="-1" strike="noStrike">
                <a:solidFill>
                  <a:srgbClr val="c17529"/>
                </a:solidFill>
                <a:latin typeface="Franklin Gothic Book"/>
              </a:rPr>
              <a:t>znalost všech mateřských jazyků 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žáků-cizinců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1" lang="cs-CZ" sz="2800" spc="-1" strike="noStrike">
                <a:solidFill>
                  <a:srgbClr val="c17529"/>
                </a:solidFill>
                <a:latin typeface="Franklin Gothic Book"/>
              </a:rPr>
              <a:t>znalost sociokulturního prostředí </a:t>
            </a:r>
            <a:r>
              <a:rPr b="0" lang="cs-CZ" sz="2800" spc="-1" strike="noStrike">
                <a:solidFill>
                  <a:srgbClr val="c17529"/>
                </a:solidFill>
                <a:latin typeface="Franklin Gothic Book"/>
              </a:rPr>
              <a:t>žáka-cizince</a:t>
            </a:r>
            <a:r>
              <a:rPr b="1" lang="cs-CZ" sz="2800" spc="-1" strike="noStrike">
                <a:solidFill>
                  <a:srgbClr val="c17529"/>
                </a:solidFill>
                <a:latin typeface="Franklin Gothic Book"/>
              </a:rPr>
              <a:t> a základů jeho mateřského jazyk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4e3b30"/>
                </a:solidFill>
                <a:latin typeface="Franklin Gothic Book"/>
              </a:rPr>
              <a:t>Úloha pedagoga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: prostřednictvím základních znalostí typologie jazyků a kulturních odlišností </a:t>
            </a:r>
            <a:r>
              <a:rPr b="0" i="1" lang="cs-CZ" sz="2800" spc="-1" strike="noStrike">
                <a:solidFill>
                  <a:srgbClr val="4e3b30"/>
                </a:solidFill>
                <a:latin typeface="Franklin Gothic Book"/>
              </a:rPr>
              <a:t>budovat pozitivní postoje 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u svých žák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tegrační program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apř. ve Finsku, Irsku, Norsku a Belgii v rámci krátkodobých a střednědobých program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7529"/>
                </a:solidFill>
                <a:latin typeface="Franklin Gothic Book"/>
              </a:rPr>
              <a:t>Finsko -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program rozvoje multikulturních dovedností ve všeobecném vzdělávání (2007–2011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příliv národností z Ruska, Somálska, Albánie, Estonska a příslušníků kurdské národnosti (povinná školní docházka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7529"/>
                </a:solidFill>
                <a:latin typeface="Franklin Gothic Book"/>
              </a:rPr>
              <a:t>Finský program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je zaměřen na žáky-migranty 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a) v předškolním věku (6 let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b) na ZŠ (7–16 let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škola získává dvojitý grant na žáka-cizince v jeho prvním roce studia, individuální vzdělávací plán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možnost studovat švédštinu, finštinu a svůj rodný jazyk ve skupinové výuce vedené učitelem a jeho asistentem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povinností zřizovatele je nabídnout žáku-cizinci výuku v jeho rodném jazyce, přičemž finský školský zákon garantuje výuku náboženství v rodném jazyce žáka-cizince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Finsko vypracovalo kurikulum pro žáky/studenty – finština (švédština) jako cizí jazyk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17529"/>
                </a:solidFill>
                <a:latin typeface="Franklin Gothic Book"/>
              </a:rPr>
              <a:t>Pedagogové</a:t>
            </a: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 žáků-cizinců jsou doškolováni pro výuku finštiny jako cizího jazyka; finančně hodnoceni už i za výuku minimálně dvou žáků-cizinců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3b30"/>
                </a:solidFill>
                <a:latin typeface="Franklin Gothic Book"/>
              </a:rPr>
              <a:t>jednotlivé obce pak mají vypracovány multikulturní integrační programy pro efektivní začleňování nejen žáků-cizinců, ale všech žáků do základního vzdělávání (10 bodů – viz materiál) 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4e3b30"/>
                </a:solidFill>
                <a:latin typeface="Franklin Gothic Book"/>
              </a:rPr>
              <a:t>Rada Evropy – </a:t>
            </a:r>
            <a:r>
              <a:rPr b="0" lang="cs-CZ" sz="2700" spc="-1" strike="noStrike">
                <a:solidFill>
                  <a:srgbClr val="c17529"/>
                </a:solidFill>
                <a:latin typeface="Franklin Gothic Book"/>
              </a:rPr>
              <a:t>doporučení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pro národní politiky</a:t>
            </a:r>
            <a:r>
              <a:rPr b="1" lang="cs-CZ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jednotlivých zemí, tedy i </a:t>
            </a:r>
            <a:r>
              <a:rPr b="0" lang="cs-CZ" sz="2700" spc="-1" strike="noStrike">
                <a:solidFill>
                  <a:srgbClr val="c17529"/>
                </a:solidFill>
                <a:latin typeface="Franklin Gothic Book"/>
              </a:rPr>
              <a:t>pro </a:t>
            </a:r>
            <a:r>
              <a:rPr b="1" lang="cs-CZ" sz="2700" spc="-1" strike="noStrike">
                <a:solidFill>
                  <a:srgbClr val="c17529"/>
                </a:solidFill>
                <a:latin typeface="Franklin Gothic Book"/>
              </a:rPr>
              <a:t>ČR</a:t>
            </a:r>
            <a:r>
              <a:rPr b="1" lang="cs-CZ" sz="27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17529"/>
                </a:solidFill>
                <a:latin typeface="Franklin Gothic Book"/>
              </a:rPr>
              <a:t>v</a:t>
            </a:r>
            <a:r>
              <a:rPr b="0" lang="cs-CZ" sz="2400" spc="-1" strike="noStrike">
                <a:solidFill>
                  <a:srgbClr val="c17529"/>
                </a:solidFill>
                <a:latin typeface="Franklin Gothic Book"/>
              </a:rPr>
              <a:t>ypracovat a následně realizovat krátkodobý nebo střednědobý plán/program vzdělávání</a:t>
            </a:r>
            <a:r>
              <a:rPr b="1" lang="cs-CZ" sz="24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k začleňování žáků-cizinců do základních škol (pro poč. období 1–2 let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národní strategie využitelná na úrovni regionu i školy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4e3b30"/>
                </a:solidFill>
                <a:latin typeface="Franklin Gothic Book"/>
              </a:rPr>
              <a:t>součinnost zúčastněných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samotného žáka-cizin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rodičů žáka-cizin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vedení školy a pedagogického sbor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zřizovatele škol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eziskových organizací (pedagogicko-psychologických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poraden) a dalších organizací zabývajících se integrací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migrantů (azylová centra aj.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17529"/>
                </a:solidFill>
                <a:latin typeface="Franklin Gothic Book"/>
              </a:rPr>
              <a:t>V programu by měly být zohledněny následující skutečnosti a požadavky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A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Žák-cizinec s nulovou i částečnou znalostí českého jazyka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B. Možnost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zařadit žáka-cizince do příslušného ročníku podle jeho způsobilosti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(jak na prvním, tak i druhém stupni základní školy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C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Rozvoj jazykových kompetencí žáka-cizince v klasické třídě i mimo ni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(např. 80% povinná docházka ve vyučování s majoritní většinou a 20% povinné vzdělávání se </a:t>
            </a:r>
            <a:br>
              <a:rPr sz="1800"/>
            </a:b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v českém jazyce, např. za účasti proškoleného pedagoga, asistenta pedagoga, ve spolupráci s pedagogicko-psychologickou poradnou apod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D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Specifická role pedagoga v multikulturní třídě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(učitele jazyků a ostatních vyučovacích předmětů) i role dalších zúčastněných (ředitele, koordinátora, rodiče, neziskové organizací aj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E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Metody, formy a postupy ve výuce češtiny jako druhého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jazyka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F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Rozvoj sociokulturní kompetence pedagoga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, která by zahrnovala osvojení tzv. sociokulturního minima (základy typologie jazyků, odlišné chování, kultura, náboženství aj.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G. </a:t>
            </a:r>
            <a:r>
              <a:rPr b="1" lang="cs-CZ" sz="1800" spc="-1" strike="noStrike">
                <a:solidFill>
                  <a:srgbClr val="4e3b30"/>
                </a:solidFill>
                <a:latin typeface="Franklin Gothic Book"/>
              </a:rPr>
              <a:t>Úpravu organizační struktury výuky žáků-cizinců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 s ohledem na možnosti škol a školských zařízení v ČR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Nadpis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další vzdělávání pedagogických pracovníků (DVPP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programy učitelských oborů na PF a FF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nový předmět „</a:t>
            </a:r>
            <a:r>
              <a:rPr b="1" lang="cs-CZ" sz="3000" spc="-1" strike="noStrike">
                <a:solidFill>
                  <a:srgbClr val="c17529"/>
                </a:solidFill>
                <a:latin typeface="Franklin Gothic Book"/>
              </a:rPr>
              <a:t>Multikulturní pedagogika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zohlednit vícejazyčné a interkulturní postoje a přístupy k žákům-cizincům </a:t>
            </a: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v národním kurikulu a školních vzdělávacích programech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 s ohledem na vývoj integrační politiky v Evropě a v souladu s Radou Evropo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52:33Z</dcterms:created>
  <dc:creator>sindelarova</dc:creator>
  <dc:description/>
  <dc:language>en-US</dc:language>
  <cp:lastModifiedBy>Mirka</cp:lastModifiedBy>
  <dcterms:modified xsi:type="dcterms:W3CDTF">2014-11-05T23:42:45Z</dcterms:modified>
  <cp:revision>15</cp:revision>
  <dc:subject/>
  <dc:title>ZAČLEŇOVÁNÍ ŽÁKŮ-CIZINCŮ  DO ZÁKLADNÍCH ŠKOL</dc:title>
</cp:coreProperties>
</file>