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303-4623-4483-96D5-38C90310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1A7-EC13-47AE-AB8E-AAD8718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BF7-1007-400B-83DB-AE1A999A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591-2DC1-44E7-920C-80F3B9BB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876-CBF0-4C5D-825A-D5002F34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9302-7D0A-4256-A307-4422F3B1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CCD-EC94-458A-9226-AC9F727D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DC0-7789-4F42-9E63-360DBB35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79AF-0B1F-42FC-91D0-676E0A5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121-D900-423D-A65C-3768AA1A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AA5-7E3B-4472-96B2-9DA7216B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712-91A5-493E-A151-619DA1E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1C9-077C-47C8-B6E7-4BC62E2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EEA-9C6A-4DB4-BB3E-272E0A3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127F-8BD8-47FD-A67F-6EB7D03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2133-DBC8-41B7-9BDF-1619D21F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253E-72BE-4964-BEBE-F5493271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5F99D-E43A-4F73-B54A-BDBF09B1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1ABFB-6757-4990-96EA-A66707C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4B665-685C-4FF1-8C9F-3FE5082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4D028-3EE3-472E-B332-6A724D0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729A5-7FBD-4966-85F7-89B9E5E9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B56-7730-43AD-B45E-8CF0D34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00E45-13C0-479F-8536-C1EA17C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91FB2-918C-4E5C-964B-E2CC8D5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7D9F-1EB0-4ACE-8384-CD0B0D7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CBBEA-0F19-4B57-82DE-8360733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A8948-F20B-412E-A387-EE1F315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6471F-0E22-4FD5-B872-91B514B2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E48C7-8637-403F-B24E-54BB0E68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B24A-4FB5-4359-A4D1-D70F1E4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F7F9-9ACE-4B33-A287-0424875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8ED5-AADB-447D-9180-A1B72D2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778-520B-4D19-B62A-454C207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E32B-C979-46E7-98EC-F90E6E6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696D-618A-47D9-A1CF-DCF82DF2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0D86-4D49-4875-8DD5-4C7721F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A1F4-5AAE-45E9-9995-0A1355A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1F3E-D5A3-44BE-B137-D93A3D1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3A0B-F3B8-41D2-B510-3F2217E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394A-7CAD-4D43-BE4C-B492551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A3A9-FE89-467B-B08E-F52F3615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046D-C034-4441-BFEA-0009B49E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ECC-C43E-49F7-8041-FA580FE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4FE-8825-4EC0-BCE4-5C92F88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76D-A040-4089-9F25-1ED3896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910-4FC3-42B0-95E0-A52DC01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C03-53CE-4D04-ABBE-022D455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732-08FA-4E33-90C7-388C98608A18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A770-06B6-4C86-9E96-76AB5478C3A9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AE4-6A81-495F-83C4-288B559F8EF5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5379-0226-43E0-8BFF-1F0C7BDE48C4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348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METODICK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Á</a:t>
            </a: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DOPORUČENÍ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K ZAČLEŇOVÁNÍ ŽÁKŮ-CIZINCŮ 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DO VÝUKY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Zástupný symbol pro obsah 2" descr=""/>
          <p:cNvPicPr/>
          <p:nvPr/>
        </p:nvPicPr>
        <p:blipFill>
          <a:blip r:embed="rId1"/>
          <a:stretch/>
        </p:blipFill>
        <p:spPr>
          <a:xfrm>
            <a:off x="1036800" y="2017800"/>
            <a:ext cx="67910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ěkuji za pozornos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02160" y="2363760"/>
            <a:ext cx="1938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navázat spolupráci s rodiči, vést s nimi řízený rozhovor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vyžádat potřebnou dokumentaci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např. vysvědčení)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s chodem a organizační strukturou konkrétní ško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školským systémem v cílové zemi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webové stránky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správně zařadit žáka-cizince do vyučovacího</a:t>
            </a:r>
            <a:br>
              <a:rPr sz="1400"/>
            </a:b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procesu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(do ročníku),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a to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na základě těchto faktorů: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ě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dosavadní vzdělá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českého jazyk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předškolní vě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český vychovate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ednoletý až dvouletý odklad povinné školní docházky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s předchozím zařazením do MŠ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přípravná tříd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doporučení z pedagogicko-psychologické poradn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rodičů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ředitele škol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0246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15640" y="1844640"/>
            <a:ext cx="677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ateřský jazy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kupiny: Slované a Neslované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komunikačního kódu společného žákovi a učitel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RJ, AJ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otivace žáka k učení s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vhodně motivovat žáky-cizince při výu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chválit  za sebemenší pokro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tejné požadavky jako na české spolužák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odlišný kulturní vzorec cho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iný školský systém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ycházet z předem stanovených jazykových a komunikačních kritéri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060280"/>
            <a:ext cx="67770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ařazen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žáků-cizinců do konkrétní třídy je obvykle dán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binac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výše uvedených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faktorů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e3d2d"/>
                </a:solidFill>
                <a:latin typeface="Century Gothic"/>
              </a:rPr>
              <a:t>vyvarovat se</a:t>
            </a:r>
            <a:r>
              <a:rPr b="0" lang="cs-CZ" sz="17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mechanického zařazování žáků-cizinců </a:t>
            </a:r>
            <a:r>
              <a:rPr b="0" i="1" lang="cs-CZ" sz="1600" spc="-1" strike="noStrike">
                <a:solidFill>
                  <a:srgbClr val="3e3d2d"/>
                </a:solidFill>
                <a:latin typeface="Century Gothic"/>
              </a:rPr>
              <a:t>podle věku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utomatického zařazování do ročníku podle ročníku absolvovaného v zemi, odkud přicházejí (stupeň ovládání vyučovacího jazyka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event. lze postupovat do vyššího ročníku rychleji (obdobně jako nadaný žák) než jeho mladší spolužáci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velké rozdíly ve věku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žáka-cizince od věku ostatních žáků ve třídě 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jsou nežádoucí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 přinášejí problémy sociálního a biologického charakteru (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max. dvouletý věkový rozdíl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výuku organizovat speciálním způsob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běžně užívané v základní škole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platňované v ménětřídních školá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žívané ve výuce s žáky s poruchami učení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ypické formy a metody používané v malotřídní škole je však třeba 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tvořivě adaptovat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0246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menším počtem žáků-cizinců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 nekumulovat v jedné školní třídě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šší počet žáků-cizinců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3–4 v jedné třídě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vyšším počtem žáků-cizinců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nekumulovat </a:t>
            </a:r>
            <a:br>
              <a:rPr sz="1800"/>
            </a:b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 jedné školní třídě více než polovinu žáků-cizinců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integrovat žáka-cizince do třídního a školního kolektivu, zabránit jejich společenské izolaci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ve třídě s nižším počtem žáků-cizinců je vhodnější, aby žáci-cizinci neseděli spolu; ve třídě s vyšším počtem žáků-cizinců mohou cizinci sedět vedle sebe a vzájemně si pomáhat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zapojovat žáka-cizince i do mimoškolní činnosti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bízet žáky-cizince ke spolupráci s ostatními žák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seznámit se se základními sociokulturními a zkušenostními rozdí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předem připravit školní třídu na přijetí žáka-cizince</a:t>
            </a:r>
            <a:r>
              <a:rPr b="0" lang="cs-CZ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seznámit žáky ve třídě se sociokulturními odlišnostmi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přenést část iniciativy na žáka-cizinc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ýho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– rizik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odporovat toleranci spolužáků a učitelů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dát žáku-cizinci příležitost k pozitivní prez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ohloubit znalosti typologie jazyků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zvládnout minimální základ školní komunikace s žákem-cizincem v jeho mateřském jazy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acovat s názornými pomůckam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k výuce vyučovacímu jazyku přistupovat z pozice cizince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6:22:39Z</dcterms:created>
  <dc:creator>sindelarova</dc:creator>
  <dc:description/>
  <dc:language>en-US</dc:language>
  <cp:lastModifiedBy>Mirka</cp:lastModifiedBy>
  <dcterms:modified xsi:type="dcterms:W3CDTF">2014-11-09T18:30:06Z</dcterms:modified>
  <cp:revision>19</cp:revision>
  <dc:subject/>
  <dc:title>METODICKÉ POKYNY K ZAČLEŇOVÁNÍ ŽÁKŮ-CIZINCŮ DO VÝUKY</dc:title>
</cp:coreProperties>
</file>