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2BB-3E33-4C14-9346-0A9EFE41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19B-D45B-4E2E-B1C2-635AA24C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8DC-1FF5-4702-BE45-2341BB07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86F-AC88-480E-9D6A-76BB1523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C770-5BFB-441C-B53F-6EEAC879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DA78-5CA3-4898-BB41-6D06EDD2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81E8-B251-49FF-8EE5-AB83C09E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4B5E-0BB0-4502-B1F0-A6B2CB06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766A-F490-429A-A30B-1AA214EF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E581-4FCA-4DBE-8BC9-FDC9420F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3306-079D-48FB-89B2-12999AF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812-AED3-4EFA-848C-1849226E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2DAF-5B56-4C61-B75E-8E89A73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A903-D750-4DE0-9E14-F4ED7DCA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79C9-C5D1-42B8-BDE0-04419075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ADBA-DD6E-4390-A8F3-567E0F8E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8591-5A91-4AC6-AC05-D4225E0D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8AAE8-47A1-4436-8A8F-F0F71243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8AB74-3BD1-4B9D-BCAB-7126EF87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C3DA6-D81E-48A7-AB43-D11894FA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45EFC-4621-4311-8D11-03E0C3BF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B6300-2703-433E-B503-0ED1F806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F30-5431-4E66-9CB4-62484E27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01AE1-CE89-4C5A-AB47-8E6005E1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C2577-1D2E-46DF-BD32-0349866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5F854-6258-4439-B6E3-7D5EB98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44E39-96DF-470B-970E-D841F7A3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2CD5C-0F25-414F-AC8F-AFFD9C09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C9191-FDFA-41AE-948D-87279640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08437-1DD0-452F-9857-35A7999B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B15A-26C0-40D7-AF87-3B013C6D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593B-6F1F-4FED-B572-55AE09F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140B-D049-4C2E-A07E-17962A97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CCE-1891-447F-AB65-5A660907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11BD-28B2-40CE-9C57-E2B92D14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F394A-CB00-43DE-A2C0-12A252B3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2BFA-3490-46C6-8BB5-FAF5BD35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E2D7-FEE4-498B-BB31-52030CB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9204-8BA2-492A-AD69-08D7B8E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530AE-9341-4E25-9AF1-17E3F3BB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7145-6B1F-43DA-BD2B-F2062EB9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A2E9-E4E5-4FBE-9F68-CB0C74D8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A4AB-9B30-4E50-A8AF-9ACC3462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BDC-64F0-4EE1-AC0F-D7DC66D9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7CC-1BF7-40D4-A117-236E67D0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DC0-D89C-46CA-A668-51262B3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974-7A88-4A82-A23E-E980D999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062-1AEA-4DA2-88BA-632AE580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7BC6-41A7-43A2-95E6-E32B8CDB021B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5B01-738E-4ED1-BB26-C69B778C781B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699-27B7-47FA-8DC6-D38447B86384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FF69-9B66-443A-B651-E537F1013927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348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METODICK</a:t>
            </a:r>
            <a:r>
              <a:rPr b="1" lang="en-US" sz="4800" spc="-1" strike="noStrike">
                <a:solidFill>
                  <a:srgbClr val="94c600"/>
                </a:solidFill>
                <a:latin typeface="Arial"/>
              </a:rPr>
              <a:t>Á</a:t>
            </a: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800" spc="-1" strike="noStrike">
                <a:solidFill>
                  <a:srgbClr val="94c600"/>
                </a:solidFill>
                <a:latin typeface="Arial"/>
              </a:rPr>
              <a:t>DOPORUČENÍ</a:t>
            </a:r>
            <a:br>
              <a:rPr sz="4800"/>
            </a:b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K ZAČLEŇOVÁNÍ ŽÁKŮ-CIZINCŮ </a:t>
            </a:r>
            <a:br>
              <a:rPr sz="4800"/>
            </a:b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DO VÝUKY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Zástupný symbol pro obsah 2" descr=""/>
          <p:cNvPicPr/>
          <p:nvPr/>
        </p:nvPicPr>
        <p:blipFill>
          <a:blip r:embed="rId1"/>
          <a:stretch/>
        </p:blipFill>
        <p:spPr>
          <a:xfrm>
            <a:off x="1036800" y="2017800"/>
            <a:ext cx="67910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Děkuji za pozornos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3602160" y="2363760"/>
            <a:ext cx="1938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navázat spolupráci s rodiči, vést s nimi řízený rozhovor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vyžádat potřebnou dokumentaci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(např. vysvědčení)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seznámit je s chodem a organizační strukturou konkrétní škol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seznámit je školským systémem v cílové zemi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(webové stránky)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správně zařadit žáka-cizince do vyučovacího</a:t>
            </a:r>
            <a:br>
              <a:rPr sz="1400"/>
            </a:br>
            <a:r>
              <a:rPr b="1" lang="en-US" sz="1400" spc="-1" strike="noStrike">
                <a:solidFill>
                  <a:srgbClr val="3e3d2d"/>
                </a:solidFill>
                <a:latin typeface="Century Gothic"/>
              </a:rPr>
              <a:t>procesu </a:t>
            </a:r>
            <a:r>
              <a:rPr b="0" i="1" lang="en-US" sz="1400" spc="-1" strike="noStrike">
                <a:solidFill>
                  <a:srgbClr val="3e3d2d"/>
                </a:solidFill>
                <a:latin typeface="Century Gothic"/>
              </a:rPr>
              <a:t>(do ročníku),</a:t>
            </a: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en-US" sz="1400" spc="-1" strike="noStrike">
                <a:solidFill>
                  <a:srgbClr val="3e3d2d"/>
                </a:solidFill>
                <a:latin typeface="Century Gothic"/>
              </a:rPr>
              <a:t>a to</a:t>
            </a: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 na základě těchto faktorů: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věk žáka-cizinc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dosavadní vzdělávání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znalost českého jazyka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1" marL="33552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předškolní věk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český vychovate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1" marL="33552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jednoletý až dvouletý odklad povinné školní docházky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(s předchozím zařazením do MŠ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přípravná třída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doporučení z pedagogicko-psychologické poradny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ouhlas rodičů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ouhlas ředitele školy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0246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15640" y="1844640"/>
            <a:ext cx="6777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mateřský jazyk žáka-cizinc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kupiny: Slované a Neslované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znalost komunikačního kódu společného žákovi a učiteli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RJ, AJ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motivace žáka k učení s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vhodně motivovat žáky-cizince při výuc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chválit  za sebemenší pokrok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tejné požadavky jako na české spolužáky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odlišný kulturní vzorec chování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jiný školský systém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vycházet z předem stanovených jazykových a komunikačních kritérií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060280"/>
            <a:ext cx="677700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zařazení 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žáků-cizinců do konkrétní třídy je obvykle dáno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ombinací 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výše uvedených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faktorů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3e3d2d"/>
                </a:solidFill>
                <a:latin typeface="Century Gothic"/>
              </a:rPr>
              <a:t>vyvarovat se</a:t>
            </a:r>
            <a:r>
              <a:rPr b="0" lang="cs-CZ" sz="17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mechanického zařazování žáků-cizinců </a:t>
            </a:r>
            <a:r>
              <a:rPr b="0" i="1" lang="cs-CZ" sz="1600" spc="-1" strike="noStrike">
                <a:solidFill>
                  <a:srgbClr val="3e3d2d"/>
                </a:solidFill>
                <a:latin typeface="Century Gothic"/>
              </a:rPr>
              <a:t>podle věku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automatického zařazování do ročníku podle ročníku absolvovaného v zemi, odkud přicházejí (stupeň ovládání vyučovacího jazyka)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event. lze postupovat do vyššího ročníku rychleji (obdobně jako nadaný žák) než jeho mladší spolužáci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e3d2d"/>
                </a:solidFill>
                <a:latin typeface="Century Gothic"/>
              </a:rPr>
              <a:t>velké rozdíly ve věku </a:t>
            </a: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žáka-cizince od věku ostatních žáků ve třídě </a:t>
            </a:r>
            <a:r>
              <a:rPr b="1" lang="cs-CZ" sz="1600" spc="-1" strike="noStrike">
                <a:solidFill>
                  <a:srgbClr val="3e3d2d"/>
                </a:solidFill>
                <a:latin typeface="Century Gothic"/>
              </a:rPr>
              <a:t>jsou nežádoucí </a:t>
            </a: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a přinášejí problémy sociálního a biologického charakteru (</a:t>
            </a:r>
            <a:r>
              <a:rPr b="1" lang="cs-CZ" sz="1600" spc="-1" strike="noStrike">
                <a:solidFill>
                  <a:srgbClr val="3e3d2d"/>
                </a:solidFill>
                <a:latin typeface="Century Gothic"/>
              </a:rPr>
              <a:t>max. dvouletý věkový rozdíl</a:t>
            </a: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výuku organizovat speciálním způsobe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tody běžně užívané v základní škole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tody uplatňované v ménětřídních školác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tody užívané ve výuce s žáky s poruchami učení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just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ypické formy a metody používané v malotřídní škole je však třeba 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tvořivě adaptovat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0246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ve škole </a:t>
            </a:r>
            <a:r>
              <a:rPr b="0" i="1" lang="cs-CZ" sz="1800" spc="-1" strike="noStrike">
                <a:solidFill>
                  <a:srgbClr val="3e3d2d"/>
                </a:solidFill>
                <a:latin typeface="Century Gothic"/>
              </a:rPr>
              <a:t>s menším počtem žáků-cizinců</a:t>
            </a: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 nekumulovat v jedné školní třídě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vyšší počet žáků-cizinců</a:t>
            </a:r>
            <a:r>
              <a:rPr b="0" i="1" lang="cs-CZ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(3–4 v jedné třídě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ve škole </a:t>
            </a:r>
            <a:r>
              <a:rPr b="0" i="1" lang="cs-CZ" sz="1800" spc="-1" strike="noStrike">
                <a:solidFill>
                  <a:srgbClr val="3e3d2d"/>
                </a:solidFill>
                <a:latin typeface="Century Gothic"/>
              </a:rPr>
              <a:t>s vyšším počtem žáků-cizinců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nekumulovat </a:t>
            </a:r>
            <a:br>
              <a:rPr sz="1800"/>
            </a:b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v jedné školní třídě více než polovinu žáků-cizinců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integrovat žáka-cizince do třídního a školního kolektivu, zabránit jejich společenské izolaci 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(ve třídě s nižším počtem žáků-cizinců je vhodnější, aby žáci-cizinci neseděli spolu; ve třídě s vyšším počtem žáků-cizinců mohou cizinci sedět vedle sebe a vzájemně si pomáhat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zapojovat žáka-cizince i do mimoškolní činnosti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vybízet žáky-cizince ke spolupráci s ostatními žák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e3d2d"/>
                </a:solidFill>
                <a:latin typeface="Century Gothic"/>
              </a:rPr>
              <a:t>seznámit se se základními sociokulturními a zkušenostními rozdíl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e3d2d"/>
                </a:solidFill>
                <a:latin typeface="Century Gothic"/>
              </a:rPr>
              <a:t>předem připravit školní třídu na přijetí žáka-cizince</a:t>
            </a:r>
            <a:r>
              <a:rPr b="0" lang="cs-CZ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e3d2d"/>
                </a:solidFill>
                <a:latin typeface="Century Gothic"/>
              </a:rPr>
              <a:t>seznámit žáky ve třídě se sociokulturními odlišnostmi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e3d2d"/>
                </a:solidFill>
                <a:latin typeface="Century Gothic"/>
              </a:rPr>
              <a:t>přenést část iniciativy na žáka-cizinc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výhody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– rizik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podporovat toleranci spolužáků a učitelů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dát žáku-cizinci příležitost k pozitivní prezentac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prohloubit znalosti typologie jazyků</a:t>
            </a: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zvládnout minimální základ školní komunikace s žákem-cizincem v jeho mateřském jazy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pracovat s názornými pomůckam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k výuce vyučovacímu jazyku přistupovat z pozice cizince</a:t>
            </a: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6:22:39Z</dcterms:created>
  <dc:creator>sindelarova</dc:creator>
  <dc:description/>
  <dc:language>en-US</dc:language>
  <cp:lastModifiedBy>Mirka</cp:lastModifiedBy>
  <dcterms:modified xsi:type="dcterms:W3CDTF">2014-11-09T18:30:06Z</dcterms:modified>
  <cp:revision>19</cp:revision>
  <dc:subject/>
  <dc:title>METODICKÉ POKYNY K ZAČLEŇOVÁNÍ ŽÁKŮ-CIZINCŮ DO VÝUKY</dc:title>
</cp:coreProperties>
</file>